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D84-CEC8-44C9-91B1-6422FA5C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38A-4116-4899-B926-455916A2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EC0-959C-4451-AB49-C0AFD4BD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B15-541D-49E4-8BBC-F08BB68A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C36-92BD-4191-AEC9-7D258B3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CFF-2F58-4D6A-90FC-7FDCA45C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3AF-17C5-47FE-8492-B09796AD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2EB-BC7C-4AC6-94D4-275C03D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DF1-7607-4560-B37F-9B269C4C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3D8-D527-490B-875B-D45389F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E57-378B-4656-9A1B-3E6F193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970-EBC0-477E-87F0-BB6477E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33C-3EE8-4999-96C1-0BB74A781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СТРУКТУРА КНИГИ. ВЫБОР КНИГ В БИБЛИОТЕ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797200">
            <a:off x="868320" y="1804680"/>
            <a:ext cx="5692680" cy="457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33336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КАК ПРАВИЛЬНО ВЫБРАТЬ КНИ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916280"/>
            <a:ext cx="432108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Внешний вид 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437000"/>
            <a:ext cx="417492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По совету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3429000"/>
            <a:ext cx="432108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По рекомендаци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941720"/>
            <a:ext cx="468000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Что посоветовал учеб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933720"/>
            <a:ext cx="453528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По каталогу дл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661000"/>
            <a:ext cx="8064720" cy="9471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Из рекомендательного списка литературы для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924280"/>
            <a:ext cx="439272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По совету библиотек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2421000"/>
            <a:ext cx="4248000" cy="5205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Times New Roman"/>
              </a:rPr>
              <a:t>Совет д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04000" y="765000"/>
            <a:ext cx="1440000" cy="1370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476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КАК ЧИТАТЬ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341360"/>
            <a:ext cx="40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Выбирай  книги для свое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1400400" cy="1662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1413000"/>
            <a:ext cx="3744720" cy="28796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581360"/>
            <a:ext cx="417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Во время чтения имей при себе закладку для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1557360"/>
            <a:ext cx="38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Бери книгу чистыми р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337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Не делай никаких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пом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451640" y="4292640"/>
            <a:ext cx="952560" cy="1905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16360" y="3716280"/>
            <a:ext cx="3961080" cy="259236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9640" y="479736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35640" y="1700280"/>
            <a:ext cx="204840" cy="204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64000" y="2852640"/>
            <a:ext cx="3164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Читай книгу только си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720" y="333360"/>
            <a:ext cx="587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КАК ЧИТАТЬ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413000"/>
            <a:ext cx="41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Читай книгу при хорошо освещенной комна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4365720"/>
            <a:ext cx="42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Расскажи о прочитанном  товарищ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04480" cy="204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508720" y="2997360"/>
            <a:ext cx="204840" cy="20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664080" y="2349360"/>
            <a:ext cx="1815840" cy="21592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19280" y="404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cc"/>
                </a:solidFill>
                <a:uFillTx/>
                <a:latin typeface="Times New Roman"/>
              </a:rPr>
              <a:t>СТРУКТУРА КНИГ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1940040" cy="20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57340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правоч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595008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95640" y="537372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11280" y="46530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780000" y="162864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859280" y="234936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4067280" y="3068640"/>
            <a:ext cx="133200" cy="13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24360" y="1413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уперобло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13372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Обложка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2852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3645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Анно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3657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Предисловие,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вступитель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40360" y="508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Оглавление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8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8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8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8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8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8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8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rot="20615400">
            <a:off x="466920" y="1108080"/>
            <a:ext cx="53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СУПЕРОБЛОЖ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068640"/>
            <a:ext cx="36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НАЗВАНИЕ                                           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448080" cy="287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2852640"/>
            <a:ext cx="3887640" cy="345600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20249400">
            <a:off x="396000" y="1196640"/>
            <a:ext cx="529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ОБЛОЖКА 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3600" y="2133720"/>
            <a:ext cx="18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А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10520" y="3500280"/>
            <a:ext cx="28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ЗАГЛА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537372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ИЛЛЮСТРАЦИЯ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84720" y="3068640"/>
            <a:ext cx="2019600" cy="311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356000" y="234936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16000" y="5661000"/>
            <a:ext cx="206280" cy="206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763640" y="3789360"/>
            <a:ext cx="204840" cy="2048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5040" y="2852640"/>
            <a:ext cx="501480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ТИТУЛЬНЫЙ Л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506000">
            <a:off x="328320" y="1553040"/>
            <a:ext cx="3865680" cy="70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Фамилия ав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524000">
            <a:off x="5082120" y="1557720"/>
            <a:ext cx="3529080" cy="70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Название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2280" y="4221000"/>
            <a:ext cx="3366000" cy="70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Издатель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00280" y="4149720"/>
            <a:ext cx="3443760" cy="70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Место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из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5734080"/>
            <a:ext cx="3168360" cy="70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Год из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5400000">
            <a:off x="4069800" y="436248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13758600">
            <a:off x="3062160" y="2273040"/>
            <a:ext cx="952200" cy="237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8556200">
            <a:off x="5151600" y="2273040"/>
            <a:ext cx="952200" cy="237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7200000">
            <a:off x="2918880" y="3786120"/>
            <a:ext cx="952560" cy="237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3279600">
            <a:off x="5367240" y="3785760"/>
            <a:ext cx="952560" cy="238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8160" y="303120"/>
            <a:ext cx="37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1557360"/>
            <a:ext cx="6183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В аннотации раскрывается содержание книги. Аннотации чаще всего печатаются на обороте титульного листа или в конце кни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36836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89000"/>
            <a:ext cx="448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ПРЕДИСЛО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842472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45098"/>
                </a:srgbClr>
              </a:gs>
              <a:gs pos="100000">
                <a:srgbClr val="ffffff">
                  <a:alpha val="49019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Помещается перед авторским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773360"/>
            <a:ext cx="8424720" cy="1068840"/>
          </a:xfrm>
          <a:prstGeom prst="rect">
            <a:avLst/>
          </a:prstGeom>
          <a:gradFill rotWithShape="0">
            <a:gsLst>
              <a:gs pos="0">
                <a:srgbClr val="ffffff">
                  <a:alpha val="45098"/>
                </a:srgbClr>
              </a:gs>
              <a:gs pos="100000">
                <a:srgbClr val="ffffff">
                  <a:alpha val="46274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Сведения об авторе и других его произвед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3860640"/>
            <a:ext cx="8424720" cy="1068840"/>
          </a:xfrm>
          <a:prstGeom prst="rect">
            <a:avLst/>
          </a:prstGeom>
          <a:gradFill rotWithShape="0">
            <a:gsLst>
              <a:gs pos="0">
                <a:srgbClr val="ffffff">
                  <a:alpha val="49019"/>
                </a:srgbClr>
              </a:gs>
              <a:gs pos="100000">
                <a:srgbClr val="ffffff">
                  <a:alpha val="47058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Рассказывается об эпохе, отраженной в произве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8640"/>
            <a:ext cx="842652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41176"/>
                </a:srgbClr>
              </a:gs>
              <a:gs pos="100000">
                <a:srgbClr val="ffffff">
                  <a:alpha val="44313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Указывается на достоинства  данной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084640"/>
            <a:ext cx="8424720" cy="1556280"/>
          </a:xfrm>
          <a:prstGeom prst="rect">
            <a:avLst/>
          </a:prstGeom>
          <a:gradFill rotWithShape="0">
            <a:gsLst>
              <a:gs pos="0">
                <a:srgbClr val="ffffff">
                  <a:alpha val="46274"/>
                </a:srgbClr>
              </a:gs>
              <a:gs pos="100000">
                <a:srgbClr val="ffffff">
                  <a:alpha val="46274"/>
                </a:srgbClr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Объясняется структура книги ( в книге могут встречаться разные названия текста или гла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 rot="1685400">
            <a:off x="6948360" y="188640"/>
            <a:ext cx="1079640" cy="8748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640" y="231840"/>
            <a:ext cx="62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ОГЛАВЛЕНИ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341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помогает понять её структур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85264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Содержит </a:t>
            </a: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тему  книги</a:t>
            </a: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 , </a:t>
            </a:r>
            <a:r>
              <a:rPr b="0" i="1" lang="en-US" sz="4000" spc="-1" strike="noStrike">
                <a:solidFill>
                  <a:srgbClr val="009900"/>
                </a:solidFill>
                <a:latin typeface="Times New Roman"/>
              </a:rPr>
              <a:t>перечень названий глав или параграфов (в учебнике), определенных страниц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04480" cy="204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204480" cy="204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04000" y="4797360"/>
            <a:ext cx="151308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260280"/>
            <a:ext cx="431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СПРАВОЧНЫЙ АППАРАТ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49880" y="691920"/>
            <a:ext cx="6066000" cy="5868720"/>
            <a:chOff x="2549880" y="691920"/>
            <a:chExt cx="6066000" cy="5868720"/>
          </a:xfrm>
        </p:grpSpPr>
        <p:sp>
          <p:nvSpPr>
            <p:cNvPr id="101" name="_s9223"/>
            <p:cNvSpPr/>
            <p:nvPr/>
          </p:nvSpPr>
          <p:spPr>
            <a:xfrm flipH="1" flipV="1">
              <a:off x="4086000" y="3376440"/>
              <a:ext cx="748800" cy="243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24"/>
            <p:cNvSpPr/>
            <p:nvPr/>
          </p:nvSpPr>
          <p:spPr>
            <a:xfrm>
              <a:off x="2549880" y="2346120"/>
              <a:ext cx="15742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9225"/>
            <p:cNvSpPr/>
            <p:nvPr/>
          </p:nvSpPr>
          <p:spPr>
            <a:xfrm flipH="1">
              <a:off x="4657320" y="4500000"/>
              <a:ext cx="462600" cy="6368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26"/>
            <p:cNvSpPr/>
            <p:nvPr/>
          </p:nvSpPr>
          <p:spPr>
            <a:xfrm>
              <a:off x="3407760" y="4986360"/>
              <a:ext cx="15742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9227"/>
            <p:cNvSpPr/>
            <p:nvPr/>
          </p:nvSpPr>
          <p:spPr>
            <a:xfrm>
              <a:off x="6045840" y="4500000"/>
              <a:ext cx="462600" cy="6368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9228"/>
            <p:cNvSpPr/>
            <p:nvPr/>
          </p:nvSpPr>
          <p:spPr>
            <a:xfrm>
              <a:off x="6183720" y="4986360"/>
              <a:ext cx="15742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229"/>
            <p:cNvSpPr/>
            <p:nvPr/>
          </p:nvSpPr>
          <p:spPr>
            <a:xfrm flipV="1">
              <a:off x="6331320" y="3376440"/>
              <a:ext cx="748800" cy="243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9230"/>
            <p:cNvSpPr/>
            <p:nvPr/>
          </p:nvSpPr>
          <p:spPr>
            <a:xfrm>
              <a:off x="7041600" y="2346120"/>
              <a:ext cx="15742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9231"/>
            <p:cNvSpPr/>
            <p:nvPr/>
          </p:nvSpPr>
          <p:spPr>
            <a:xfrm flipV="1">
              <a:off x="5582880" y="2289240"/>
              <a:ext cx="0" cy="786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9232"/>
            <p:cNvSpPr/>
            <p:nvPr/>
          </p:nvSpPr>
          <p:spPr>
            <a:xfrm>
              <a:off x="4795920" y="714960"/>
              <a:ext cx="15742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9233"/>
            <p:cNvSpPr/>
            <p:nvPr/>
          </p:nvSpPr>
          <p:spPr>
            <a:xfrm>
              <a:off x="4795920" y="3076560"/>
              <a:ext cx="157428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У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7280" y="691920"/>
              <a:ext cx="157500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Имё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55280" y="2349360"/>
              <a:ext cx="157500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Географических назва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0720" y="4973400"/>
              <a:ext cx="15742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Предметный указ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7800" y="4973400"/>
              <a:ext cx="165420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Словарь терми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9280" y="2349360"/>
              <a:ext cx="157536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cc"/>
                  </a:solidFill>
                  <a:latin typeface="Arial"/>
                </a:rPr>
                <a:t>Хроно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cc"/>
                  </a:solidFill>
                  <a:latin typeface="Arial"/>
                </a:rPr>
                <a:t>гический аппа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26035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3:33:09Z</dcterms:created>
  <dc:creator>WORLD</dc:creator>
  <dc:description/>
  <dc:language>en-US</dc:language>
  <cp:lastModifiedBy>user</cp:lastModifiedBy>
  <dcterms:modified xsi:type="dcterms:W3CDTF">2010-10-28T01:57:54Z</dcterms:modified>
  <cp:revision>8</cp:revision>
  <dc:subject/>
  <dc:title>Слайд 1</dc:title>
</cp:coreProperties>
</file>