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CCF-3AC7-4326-8D4B-00712AA4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AA9-D13D-4116-8BD7-F0B090E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09F52-E685-44E7-8762-9B7AC19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259A5-59F6-4937-8C30-FDE9E2A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52303-7782-495E-8B8D-96E4605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3AB80-53F5-473A-A009-4B354E2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1740B-092C-47CF-A4C7-A80DA1A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89BEB-6BE8-4468-89D2-6F681EA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53527-597F-46BC-AEBA-B15E0B09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CAB6F-99E8-46A4-91B8-8DCC3152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A813-028B-4D82-9581-97EEBFB4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2CC1C-9AA5-40E8-A0B5-02B6022B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150-4078-4D4A-A543-48D88CA5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B4693-AE15-4B29-9A53-A52A7ED8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94E43-60CE-4D8E-A24F-A89D5C7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00580-1DD3-4D2A-AD16-08549280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75418-67BB-45A4-BF2D-F8CBC7E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DEF42-D756-4944-8C81-A40B009C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BB029-7486-4B6D-A11B-4BB151E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D61D0-66F2-4C93-BD25-F6849A1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AE630-43EB-4CA5-8131-30FE4D79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1F195-11AA-42D8-9316-2167459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EE696-5976-47A6-91DF-2B77FAD7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B2D-C3E4-442E-A407-3BB5BE6C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C3725-6380-47B4-81D9-B0D5113D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171D3-C318-412F-9D89-27DA95E9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A7AC-9AA6-4164-BEF6-85E4DD5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AFB03-FA0E-4D65-BB82-F80C51C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9018-CD6B-40B4-8FF8-3EAAD036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BFA15-BC6B-4714-B198-A3A6248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A0209-7A9F-47C2-BE04-0768AFB0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5B831-5B57-4EB0-B5DB-631717E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9CC94-BDA6-4FA2-9F82-912FA513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94B86-AF4B-419C-874C-568FBC8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F33-D563-46D3-9040-C9F66A9B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B4C9-86E6-4FC2-9F6C-3EA6979E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1B7EC-DA17-4FCD-8149-2A139BE4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A3D05-5E14-4CF1-9470-9389D116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14098-764E-43AF-A324-C8FA699F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E0C68-926F-4C05-988B-55899873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FEC73-73F9-42B1-832A-E4B964FB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43D12-F4C3-48F7-AE7B-51EA5DFF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DFA49-66E4-4EBF-B502-13C52C43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971A1-0F9F-4637-80E9-719AF2BF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7B8BE-699C-4582-B09A-19DEABB2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411-6CAF-40D4-A2AF-372723C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0082F-5275-4BA8-ADDD-4CAC6C4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9CEF7-57B5-4E50-88DF-1D1585F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F01A8-E5D4-441A-9F6B-4320447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2997-1E21-4643-8239-38DB0A2D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6C228-4BEA-4B05-9544-1025CE7A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4784B9-410D-4F92-B26E-044BF0F6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0BD8D1-0E5B-4CCA-9083-E8C77944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BC988D-C859-48BF-A0B4-E257015F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9CF371-048B-4C07-9652-EF398406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21AC56-B3E0-4533-B612-BE87B51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C65-028E-4393-9C96-43CECB9A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EB5356-2510-424F-A092-E6DBEFF9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8BBBD6-8F4D-4783-8845-FB6D718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20213B-D5C0-4671-9B66-1AAE793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18C2E4-2D7A-40BB-9083-004F4B6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0B8986-7063-417D-BEFE-CFFFC07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986FB7-43BD-4F52-B567-B66EA4EB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6C85C5-0A11-420E-A9F5-DCF52EAB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29A49-A3D3-455D-B187-5991D058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20A18-A640-4947-8CDC-627542FA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F3524-EDEC-498E-B4F9-C9239336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4C29-D284-4755-8F65-34A73091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3041B-C7AA-4C76-A901-A25353F9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88FD9-BFE2-4D3E-85DD-124B671A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46F9B-BFFB-4DEB-8897-3329EAA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F040D-1641-4431-B0AD-EF3B1B0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2F406-692C-4DAF-96AE-3AA939F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D8636-35C8-405D-A820-F65480E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1C1B5-8793-42C1-B202-9A77546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1E895-0D5F-46AD-BF16-0FA53DC5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8B0AD-118F-4987-BC89-5190B469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C922-9822-4714-B61A-4255367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410A-2F7C-4AFE-A721-2BF8F60D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6746-9D93-430B-A9A2-612C1CA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056-132E-4BE6-9F77-74D6ABC8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4C45-130A-45EB-8371-7FEFC2E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525-0A26-463F-9646-F021886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01D4-5FE7-4D6B-ABDD-D9E45AFE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2D00-922F-4AF5-96A5-177FF0AF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9102-A3F9-4F93-BD0B-52F748AF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80A6-CCC1-477E-BEC0-11F2DF23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0E59-D747-472D-885F-83690D9D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9EF2-6153-4371-ACB2-E34934B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6C1F-74C3-4724-919B-9A7134C6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5F582-1315-49B3-91CE-3CC24C9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D86-4A92-49C6-91B9-90AFDCE7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E84B-824A-4AF3-BAEC-CE6BB7EB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8F19-DCAE-4D13-BD87-3C34CA04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CCA8-B56B-4118-B56B-BCEA4E6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FF70-72AE-4F69-A9D3-2B12C50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C534-D147-42A6-9FB4-F0351DB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9EBD-F6F6-4C60-AB7A-5D388D37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D78C-A2B3-4D35-BB96-654D2943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ACA8-EC4C-4475-B967-6FDF35BD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EE51-6E80-49B7-AA2A-3ACC561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5AC0-957B-4262-B3AB-B11A831C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CB6-07F7-44B3-861B-3C897E9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047D-F0E6-4C42-98DB-C25A5AE0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B419-1798-4200-86F9-0BF55A4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F5FB-6855-4FF5-A87C-360722CE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A9F5-EF98-4078-AF4B-2C1E192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D3DD-2633-41C4-9D93-1DF8BD2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C927-709F-4030-92E9-0A2C266A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C5EB-008E-4F01-A763-316FD204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783C-FD26-4CBE-B31C-8241E75E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8DC9-B5F7-4170-9C72-C7DC98D2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C3BD-C32A-4E11-870F-C271D9D4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B7D-C98B-419A-9E9B-C99E1448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55FE-4AD1-4240-AEB1-E028D03C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0F71-60B0-4CBA-92B2-0F2A8AF2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442E-E5AA-4370-BE04-CBD2148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003F-8DB2-43E5-9D16-FACC0EBA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CDFF-B826-4024-8561-6CCB592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B664-A102-4781-903E-B6B6CB9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0602-41D0-4894-9883-907069C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686B-B3F1-48D2-9CE4-1C2961B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B89F-8D3F-418B-9AE4-4B14E61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FB66-E6B6-412F-9503-D95A84BB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F40-CF19-4F09-85AA-570FF71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DA37-BA88-4C85-B2BF-28486541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25ABC-6E8F-479F-8776-861349D9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F30AD-B23C-4608-904D-76E77CA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257F3-B74F-4DE6-AA2C-5D894F0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41330-A5CC-4247-A144-150ECA0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1AD18-4DBC-48E2-AC4E-6D487F50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C32B3-DBC5-431A-8FFA-0351DD4D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A29D1-8A55-4629-8FC4-7BE89D7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2AAE6-F4CE-4725-BF69-999C542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E8AB3-27BD-46AB-8C23-11150B21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9B2-8C6C-4637-88A2-EB9DCD0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B21F8-61CF-4922-BE0E-12D2DA61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43211-C355-4F99-9A19-2FAD816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FEB3C-96D2-4FFA-89B1-E0B04F80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F0AB5-7279-43B4-92E3-0D037A02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61E73-8E6A-4329-8FB1-580908B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6296F-5F96-47D2-92C0-5C688A9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CB763-2643-4584-92E1-42A7E6F2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9227D-83D1-4A32-B6C4-E746B3E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69823-876F-4D58-A8F4-26EB82B1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D5F0C-F754-4F46-9DE4-247AA2B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C0E-6BF4-438C-BBE2-3D373F5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F2BC6-C26C-4A7A-9887-9692F08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969E6-32CC-4BF2-AFE1-DBD94BE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4E651-37FF-4C5A-82F6-463E6270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1CEA2-3BE6-40E7-9167-ED0C52EA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6989B-4BE2-43EA-943A-C32881A0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4EE26-47B7-4F88-B1F1-3897E61D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958EA-6C67-4E7B-A25F-86CC2C2C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888B7-B9D9-4E83-850D-694F83B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B6660-03A7-477B-BEFC-C1B49FE9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FCE23-984B-4BA2-91C7-001809CC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CD1-E9BF-493B-A3F0-14627933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EBD3-AC68-411A-9B1F-8F29952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F0D1E-3DF7-4451-B987-3EA2B16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B7002-7B44-4151-BDC3-7BE5370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C41C-CBA3-4F2B-B9C8-3C83A3C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B3C8-4B45-4ADB-B7E5-1555F8FB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8DAA-B0A4-49EC-8A73-58C233CB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FFD2-64DB-4EB4-B4C9-9323A14F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D20F-F4DD-4B52-801D-0AD15C1F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6B448-2619-4E13-8F58-3700D83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AD6E-C5A7-4C42-B377-DEA0CF48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2A6-2282-43DE-BFA2-5AA4693D4B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4F26-DFFF-4085-AE1C-5A1EFD5E3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5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62FC-F39F-403E-B17B-8E8BD79D27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6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D14B-1322-4FFE-B27E-AC5451C231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66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2A2-9726-4F45-A5FF-258797292B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92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A9A-E7FA-49DE-A99D-E82E6DA5AD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99E-FEAF-44FB-9BEC-6E1C840EF7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A117-27CD-4F2C-A0B7-7C76100B85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5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6499-9C74-4D93-BF63-7ACD653C77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1B99-0C11-44DD-A670-C2496BF7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1768-BBCC-43B0-9C09-4B3AE86B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05D8-8ACB-4B2B-913E-546EEB08F6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4535-166A-41D5-827E-974F3B075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24F-F767-4C5B-A97A-39DE6168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Родинская средняя школ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следование водного объ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720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: Токарев Сергей, учащийся 10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720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Недякина И. А., учитель химии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720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ологии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езультаты опытов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рганолептический анализ: вода имеет   желто- зеленую окраску; степень прозрачности составляет 16 см; при 20 С запах не обнаруживается, при 60 С- легкий запах, не поддающийся классификации, интенсивность запаха- 0 балл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 опы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имический анализ: рН=7 (нейтральная среда); вода мягкая, т.к. карбонат ионы отсутствуют; при обнаружении ионов свинца наблюдается легкое помутнение, что свидетельствует о его наличии (концентрация составляет 20 мг/л); при обнаружении ионов хлора наблюдается легкая опалесценция, значит концентрация хлора составляет 1-10 мг/л; сульфат ионы не обнаружены; концентрация нитрат ионов составляет 0,001 мг/л, т.к. при проведении опыта наблюдалось бледно- голубое окрашива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ы по охране пруда «Новы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ставителям общественности и работникам сельского совета  выявлять виновников загрязнения пруда и применять к ним штрафные сан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одить рейды по уборке мусора не только школьникам, но и взрослому насел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коле проводить профилактическую работу по экологическому воспит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мере возможности очистить ключи и родники, которые питали пру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вод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ходе работы над темой выяснили, как и когда появился пруд «Новы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дя органолептический и химический анализы воды, решили, что вода в пруду «Новый» пригодна только для сельскохозяйственных нужд. Вода в незначительных количествах содержит ионы свинца, сульфат и нитрат ионы. Данные о влиянии на организм этих и других ионов приведены в приложении №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зультаты химического анализа не отличаются большой точностью из- за отсутствия точных весов и мерной посу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 принять меры по улучшению экологической обстановки. связанной с прудом « Новы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: определить качество воды, взятой из пруда «Новы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Изучить литературу по данной те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Рассмотреть историю пруда «Новы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Экспериментально определить качество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редложить способы очистки и охраны п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7" name=""/>
          <p:cNvSpPr/>
          <p:nvPr/>
        </p:nvSpPr>
        <p:spPr>
          <a:xfrm>
            <a:off x="7812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-1248480" y="31320"/>
            <a:ext cx="11641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Методы исследов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Изучение литерату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Интервью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Экспери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Наблю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Объект исследования: пруд «Новый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Предмет исследования: анали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пробы воды, взятой из пру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, у тебя нет ни вкус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цвета, ни запа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бя невозможно описа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бой наслаждаются, не ведая, что ты тако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ьзя сказать, что ты необходима для жизн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- сама жиз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самое большое богатство на св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уан де Сент- Экзюпе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0" y="580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д на пруд с пляж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36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3320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айцев Г.В. и Токарев с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745560" cy="649620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7596360" y="3141720"/>
            <a:ext cx="54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294600" y="32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19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олептические показатели 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Цвет (окраска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озра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Зап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качества воды методами химического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Водородный показатель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Жесткость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Обнаружение ионов свин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Обнаружение хлорид ион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Обнаружение сульфат ио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Обнаружение нитрат ион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5:02:50Z</dcterms:created>
  <dc:creator>user</dc:creator>
  <dc:description/>
  <dc:language>en-US</dc:language>
  <cp:lastModifiedBy>Клиент CW</cp:lastModifiedBy>
  <dcterms:modified xsi:type="dcterms:W3CDTF">2010-10-11T08:58:0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